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18C-CCEE-43B5-9D4C-7D05F533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5B3-FEB3-43CE-A0C5-D37C1D56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882-8E38-4E35-8CAC-86ECA4A9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71B-833F-4185-8384-354256DD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336-79E9-409F-9C86-9622A42A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986-3CB5-4EE8-BC44-1CE00D2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90E-4B3F-4FCB-A2C2-FCA0A16D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8A7-8B7C-409E-A0F6-B8FC8222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2B3-5BC1-4C69-8CDB-EE6F57D7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D52-FC9F-4C0F-BAF8-0D0859F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F18-6FB9-4D27-9094-6E32409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369-8AF1-4C72-8245-25A4200A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77E4-D276-41BE-882D-B13EE1C9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CAMERE EMILIA-ROMAGNA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ragionerie – gruppo di lavoro “nuovo regolamen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P.R. 254/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rifles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ta di WORK FLOW di program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GRAMMA PLURIENN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art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iettivi di priorità strategica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luriennali di manda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ultati da conseguire nell’arco del mandato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esponsabilità poli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disponibili nei 5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GGIORNAMENTO ANNUALE (art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disposizione Relazione Previsionale Programm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viduazione degli obiettivi strategici annuali, coerenti con il programma pluriennale e con le priorità in esso conte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dazione dei programmi annuali di intervento di specificazione delle finalità che si intendono perseguire nell’an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cazione dei risultati da conseguire nell’anno(STEP DEL PLURIENN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annuali disponi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NTIVO ECONOMICO (artt. 6 e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lassificazione per funzione istitu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zione al preventivo (art.7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proventi, oneri e pian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estimen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criteri di ripartizione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e istituzion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determinazione delle risorse economic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stinate ai programmi annuali (da R.P.P.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UDGET DIREZIONALE (artt. 8 – 9 e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) Attribuzione risorse e programmi alla dirig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6200000">
            <a:off x="4210560" y="2708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108240"/>
            <a:ext cx="52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zione del piano di 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4175640" y="3824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10800000">
            <a:off x="1474920" y="4075560"/>
            <a:ext cx="6989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so com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Indicazione alla dirigenza dei risultati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guire   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ponsabilità gestion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rot="16200000">
            <a:off x="4248000" y="533700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77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attività e risultato sull’andamento dei program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efficienza, efficacia, economi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500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IGLIO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 4-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tesura del programma plurienn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obiettivi di priorità strategica ed i 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celta annuale degli obiettivi prior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le linee guida per la definizione dei 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720" y="1341000"/>
            <a:ext cx="4643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EGIO REVISO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29-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onsabile del controllo amministrativo-contabile-fi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280" y="3716280"/>
            <a:ext cx="39560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IUN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sponsabile della valutazione strategica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dispone il preventivo economico (art. 6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ssegna alla dirigenza (art.8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56000" y="3500280"/>
            <a:ext cx="4788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O DI VALUTAZIONE STRATEGIC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o tecnico di supporto alla Gi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 gli indicatori di attività e risultato sui program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ferisce periodicamente alla Giunta con relazioni periodiche, annuali (anche a Presidente e Collegio reviso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 la qualità dei servizi erogati ed il grado di soddisfazione dell’ut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nisce alla Giunta elementi di giudizio per la valutazione della diri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4149720"/>
            <a:ext cx="718920" cy="358920"/>
          </a:xfrm>
          <a:prstGeom prst="leftRightArrow">
            <a:avLst>
              <a:gd name="adj1" fmla="val 50000"/>
              <a:gd name="adj2" fmla="val 39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TARIO GENERALE E DIR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 della gestione e del realizzo dei programmi assegnati dalla Gi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 valutati dalla Giunta per il tramite di indicazioni fornite dal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no il “Piano d’azione” per la realizzazione dei 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ROLLO DI GEST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rt.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ca e monitora il piano d’azione dei dirigenti inteso 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itora gli indicatori di efficienza, efficacia, economicità dell’azione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rta 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0:08:55Z</dcterms:created>
  <dc:creator> </dc:creator>
  <dc:description/>
  <dc:language>en-US</dc:language>
  <cp:lastModifiedBy>pinid</cp:lastModifiedBy>
  <cp:lastPrinted>2006-06-23T08:50:46Z</cp:lastPrinted>
  <dcterms:modified xsi:type="dcterms:W3CDTF">2006-06-23T08:51:14Z</dcterms:modified>
  <cp:revision>4</cp:revision>
  <dc:subject/>
  <dc:title>UNIONCAMERE EMILIA-ROMAGNA Network ragionerie – gruppo di lavoro “nuovo regolamento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1560829</vt:r8>
  </property>
  <property fmtid="{D5CDD505-2E9C-101B-9397-08002B2CF9AE}" pid="3" name="_AuthorEmail">
    <vt:lpwstr>cristina.sandri@fe.camcom.it</vt:lpwstr>
  </property>
  <property fmtid="{D5CDD505-2E9C-101B-9397-08002B2CF9AE}" pid="4" name="_AuthorEmailDisplayName">
    <vt:lpwstr>Cristina Sandri</vt:lpwstr>
  </property>
  <property fmtid="{D5CDD505-2E9C-101B-9397-08002B2CF9AE}" pid="5" name="_EmailSubject">
    <vt:lpwstr/>
  </property>
</Properties>
</file>